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3710-E815-4F77-9884-3B239F268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8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ADE7-5350-4897-B115-26CD6D35A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8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8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1EB7-660C-493D-A225-24EADA7DB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8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8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8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1D50-1121-4BEE-B74E-67B1131726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9859-6F0B-4BE4-8D1B-8568909E0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F4E1-20FB-4E3C-9CEA-F737FA1FB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81FA-3F91-44D7-8484-88B1FF533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494C-01E1-41D9-85A4-52BF60E5D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EF6A-13B1-4366-8956-51EF8BA9F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8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DBBE-062C-41F3-9662-FFBC3C667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8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A770-1C27-42D5-8E29-0BFC4E508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8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4EAA-75AC-4BF8-8BF8-EB5C92E2E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cube">
            <a:avLst>
              <a:gd name="adj" fmla="val 1225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궁서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궁서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궁서체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궁서체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궁서체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0CAE-F699-4DA9-BDD8-12C6EB1DAF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-2.web.britannica.com/eb-media/78/74978-004-AE7002EB.jpg" TargetMode="External"/><Relationship Id="rId2" Type="http://schemas.openxmlformats.org/officeDocument/2006/relationships/hyperlink" Target="http://www.weta.org/fmblog/wp-content/uploads/2008/03/beethoven_young.jpg" TargetMode="External"/><Relationship Id="rId3" Type="http://schemas.openxmlformats.org/officeDocument/2006/relationships/hyperlink" Target="http://www.geocities.com/Vienna/Choir/3228/Beethoven/parents.gif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133720"/>
            <a:ext cx="4572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Jae Lee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December 4, 2008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World History G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208320" cy="4010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Ludwig van Beethove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081320" y="-4081320"/>
            <a:ext cx="981000" cy="9144000"/>
          </a:xfrm>
          <a:prstGeom prst="can">
            <a:avLst>
              <a:gd name="adj" fmla="val 525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Ludwig van Beethove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92360" y="40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103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Baptized December 17, 1770 in Bonn, Germany. 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Family originated from Brabant, Belgium.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Seven children in the family, but only 3 boys survived and he was the oldest.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Had an early interest for music.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19640" y="1838160"/>
            <a:ext cx="280044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Parent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114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Father originated from Brabant, Belgium.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궁서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Liked to drink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Mother was described as a gentle, retiring woman, with a warm heart.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궁서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Passed away on July 1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궁서체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, 1787.  Caused Beethoven much pain.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Father taught Beethoven music at an early age, determined to raise a protégé.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520" y="1967040"/>
            <a:ext cx="4524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First Work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114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Gave his first public performance at Cologne when he was 7 and a half on March 26, 1778.  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Published his first work before the age of 12, and became an organist of the court of Maximilian Franz, Elector of Cologne, when he was 14.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19640" y="1376280"/>
            <a:ext cx="29386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ause of Death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114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He died in Vienna, March 26, 1827.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He turned deaf before he died.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Asked for future people to find out what caused his death and illnesses.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궁서체"/>
              </a:rPr>
              <a:t>Scientists believe that his cause of death was lead poisoning.  </a:t>
            </a: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궁서체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985680"/>
            <a:ext cx="480060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Letter(Continued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985680"/>
            <a:ext cx="4629240" cy="5872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6480" y="981000"/>
            <a:ext cx="44575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Beethoven’s Periods of Music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114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궁서체"/>
              </a:rPr>
              <a:t>Early period-he was attempting to master the high classical style.  He created the second symphony during this period.</a:t>
            </a:r>
            <a:endParaRPr b="0" lang="en-US" sz="1800" spc="-1" strike="noStrike">
              <a:solidFill>
                <a:srgbClr val="000000"/>
              </a:solidFill>
              <a:latin typeface="궁서체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궁서체"/>
              </a:rPr>
              <a:t>Middle period-This lasted from 1802-1813, he started developing high classical styles into a more dynamic and individualistic style. He created symphonies number 3-8 during this time, piano concert Number 5, and more chamber music.  During this time, his hearing was getting worse and worse.</a:t>
            </a:r>
            <a:endParaRPr b="0" lang="en-US" sz="1800" spc="-1" strike="noStrike">
              <a:solidFill>
                <a:srgbClr val="000000"/>
              </a:solidFill>
              <a:latin typeface="궁서체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궁서체"/>
              </a:rPr>
              <a:t>Late period-His music is described as less dramatic and more introvert.  He created Symphony Number 9 during this time.</a:t>
            </a:r>
            <a:endParaRPr b="0" lang="en-US" sz="1800" spc="-1" strike="noStrike">
              <a:solidFill>
                <a:srgbClr val="000000"/>
              </a:solidFill>
              <a:latin typeface="궁서체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932360" y="12621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cond Sympho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19640" y="36450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932360" y="30621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Sympho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465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Sympho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21964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2142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85711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70766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"Beethoven's Letters - Google Book Search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궁서체"/>
              </a:rPr>
              <a:t>Google Book Search</a:t>
            </a: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. 3 Dec. 2008 &lt;http://books.google.com/books?id=rzMB4_qEgeYC&amp;pg=PA33&amp;lpg=PA33&amp;dq=beethoven's+letter+about+death&amp;source=web&amp;ots=MB8yy-NjlS&amp;sig=L_5EWP_jZYJeo-UC9nFPmZqVevY&amp;hl=en&amp;sa=X&amp;oi=book_result&amp;resnum=2&amp;ct=result#PPA34,M1&gt;.</a:t>
            </a:r>
            <a:endParaRPr b="0" lang="en-US" sz="1200" spc="-1" strike="noStrike">
              <a:solidFill>
                <a:srgbClr val="000000"/>
              </a:solidFill>
              <a:latin typeface="궁서체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"Beethoven: The Immortal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궁서체"/>
              </a:rPr>
              <a:t>I Welcome You</a:t>
            </a: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. 3 Dec. 2008 &lt;http://www.lucare.com/immortal/im_letter.html&gt;.</a:t>
            </a:r>
            <a:endParaRPr b="0" lang="en-US" sz="1200" spc="-1" strike="noStrike">
              <a:solidFill>
                <a:srgbClr val="000000"/>
              </a:solidFill>
              <a:latin typeface="궁서체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"Beethoven?s wish fulfilled 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궁서체"/>
              </a:rPr>
              <a:t>World Science - Science News</a:t>
            </a: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. 3 Dec. 2008 &lt;http://www.world-science.net/othernews/051208_beethovenfrm.htm&gt;.</a:t>
            </a:r>
            <a:endParaRPr b="0" lang="en-US" sz="1200" spc="-1" strike="noStrike">
              <a:solidFill>
                <a:srgbClr val="000000"/>
              </a:solidFill>
              <a:latin typeface="궁서체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"Biography: Beethoven's life - Ludwig van Beethoven's website - Dominique PR&amp;Eacute;VOT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궁서체"/>
              </a:rPr>
              <a:t>Ludwig van Beethoven : le site - Ludwig van Beethoven's Website - Ludwig van Beethoven in immagini ed in musica. Dominique PREVOT</a:t>
            </a: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. 3 Dec. 2008 &lt;http://www.lvbeethoven.com/Bio/BiographyLudwig.html&gt;.</a:t>
            </a:r>
            <a:endParaRPr b="0" lang="en-US" sz="1200" spc="-1" strike="noStrike">
              <a:solidFill>
                <a:srgbClr val="000000"/>
              </a:solidFill>
              <a:latin typeface="궁서체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"Ludwig van Beethoven - Biography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궁서체"/>
              </a:rPr>
              <a:t>home</a:t>
            </a: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. 3 Dec. 2008 &lt;http://home.swipnet.se/zabonk/cultur/ludwig/beetbio.htm&gt;.</a:t>
            </a:r>
            <a:endParaRPr b="0" lang="en-US" sz="1200" spc="-1" strike="noStrike">
              <a:solidFill>
                <a:srgbClr val="000000"/>
              </a:solidFill>
              <a:latin typeface="궁서체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"Ludwig van Beethoven - Wikipedia, the free encyclopedia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궁서체"/>
              </a:rPr>
              <a:t>Wikipedia, the free encyclopedia</a:t>
            </a: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. 3 Dec. 2008 &lt;http://en.wikipedia.org/wiki/Ludwig_van_Beethoven&gt;.</a:t>
            </a:r>
            <a:endParaRPr b="0" lang="en-US" sz="1200" spc="-1" strike="noStrike">
              <a:solidFill>
                <a:srgbClr val="000000"/>
              </a:solidFill>
              <a:latin typeface="궁서체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"Ludwig van Beethoven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궁서체"/>
              </a:rPr>
              <a:t>ppbWiki: Main, HomePage browse</a:t>
            </a: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. 3 Dec. 2008 &lt;http://w3.rz-berlin.mpg.de/cmp/beethoven.html&gt;.</a:t>
            </a:r>
            <a:endParaRPr b="0" lang="en-US" sz="1200" spc="-1" strike="noStrike">
              <a:solidFill>
                <a:srgbClr val="000000"/>
              </a:solidFill>
              <a:latin typeface="궁서체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"Ludwig van Beethoven: A Who2 Profile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궁서체"/>
              </a:rPr>
              <a:t>Who2.com - Find Famous People Fast!</a:t>
            </a: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. 3 Dec. 2008 &lt;http://who2.com/ludwigvanbeethoven.html&gt;.</a:t>
            </a:r>
            <a:endParaRPr b="0" lang="en-US" sz="1200" spc="-1" strike="noStrike">
              <a:solidFill>
                <a:srgbClr val="000000"/>
              </a:solidFill>
              <a:latin typeface="궁서체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궁서체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궁서체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궁서체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9999"/>
                </a:solidFill>
                <a:uFillTx/>
                <a:latin typeface="궁서체"/>
                <a:hlinkClick r:id="rId1"/>
              </a:rPr>
              <a:t>http://media-2.web.britannica.com/eb-media/78/74978-004-AE7002EB.jpg</a:t>
            </a:r>
            <a:endParaRPr b="0" lang="en-US" sz="1800" spc="-1" strike="noStrike">
              <a:solidFill>
                <a:srgbClr val="000000"/>
              </a:solidFill>
              <a:latin typeface="궁서체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9999"/>
                </a:solidFill>
                <a:uFillTx/>
                <a:latin typeface="궁서체"/>
                <a:hlinkClick r:id="rId2"/>
              </a:rPr>
              <a:t>http://www.weta.org/fmblog/wp-content/uploads/2008/03/beethoven_young.jpg</a:t>
            </a:r>
            <a:endParaRPr b="0" lang="en-US" sz="1800" spc="-1" strike="noStrike">
              <a:solidFill>
                <a:srgbClr val="000000"/>
              </a:solidFill>
              <a:latin typeface="궁서체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9999"/>
                </a:solidFill>
                <a:uFillTx/>
                <a:latin typeface="궁서체"/>
                <a:hlinkClick r:id="rId3"/>
              </a:rPr>
              <a:t>http://www.geocities.com/Vienna/Choir/3228/Beethoven/parents.gif</a:t>
            </a:r>
            <a:endParaRPr b="0" lang="en-US" sz="1800" spc="-1" strike="noStrike">
              <a:solidFill>
                <a:srgbClr val="000000"/>
              </a:solidFill>
              <a:latin typeface="궁서체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궁서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궁서체"/>
              </a:rPr>
              <a:t>http://images.google.com/imgres?imgurl=http://www.all-about-beethoven.com/poze/bet1.jpg&amp;imgrefurl=http://www.all-about-beethoven.com/beethovenchildhood1.html&amp;usg=__E6VyoCz4z7FtsHoNS4-XeuP3Z0U=&amp;h=232&amp;w=165&amp;sz=8&amp;hl=en&amp;start=3&amp;um=1&amp;tbnid=Kl0wn3wJKS5O5M:&amp;tbnh=109&amp;tbnw=78&amp;prev=/images%3Fq%3Dbeethoven,%2Byoung%26um%3D1%26hl%3Den</a:t>
            </a:r>
            <a:endParaRPr b="0" lang="en-US" sz="1800" spc="-1" strike="noStrike">
              <a:solidFill>
                <a:srgbClr val="000000"/>
              </a:solidFill>
              <a:latin typeface="궁서체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궁서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1:24:00Z</dcterms:created>
  <dc:creator>이재군</dc:creator>
  <dc:description/>
  <dc:language>en-US</dc:language>
  <cp:lastModifiedBy>이재군</cp:lastModifiedBy>
  <dcterms:modified xsi:type="dcterms:W3CDTF">2008-12-03T14:02:14Z</dcterms:modified>
  <cp:revision>7</cp:revision>
  <dc:subject/>
  <dc:title>슬라이드 1</dc:title>
</cp:coreProperties>
</file>